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4E278-58D7-456F-948D-014E31F71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E249E-1117-4656-B4C0-615994405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E1299-D108-4248-ACF1-E990EBBF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3B05E-AED2-47CC-8720-7F0D9565D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D5F7-8104-4D0E-8C01-864CA19A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16EE-681B-4D6F-998C-03F36765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3BF7-B52F-469E-B7BB-D003D912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9918-CF43-45F3-894F-626869A4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2B8AD-DA4F-455B-89FB-107FE0168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DD0B-9786-484E-8C2D-1A0DFD336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DC13-13F8-4F25-9BC7-205F796D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CD67-AE02-4672-9BF9-D34647EE4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8C1E-D65A-4BCD-95F2-030A2B6D4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66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onquistadors and pre 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light LET"/>
              </a:rPr>
              <a:t>By Michae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light LET"/>
              </a:rPr>
              <a:t>Mur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lano LET"/>
              </a:rPr>
              <a:t>Azte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central Mex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Capital was Tenochtitlan and it was build in the middle of a lake on series of isla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polytheistic which means  believed in many gods and there was a god called Quetzalcoat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olled many other tribes, and  forced them to give them money and “trib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used other tribes as slaves and human sacrif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rought down by smallp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y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yas were located in the Mexico coast-Yucatan Peninsu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one major city-was much harder for conquistadors to overth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 did not contain as much g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olythe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slaves, who could sometimes gain their freedom</a:t>
            </a:r>
            <a:endParaRPr b="0" lang="en-US" sz="3200" spc="-1" strike="noStrike">
              <a:solidFill>
                <a:srgbClr val="000000"/>
              </a:solidFill>
              <a:latin typeface="Arial"/>
            </a:endParaRPr>
          </a:p>
        </p:txBody>
      </p:sp>
      <p:pic>
        <p:nvPicPr>
          <p:cNvPr id="49" name="" descr=""/>
          <p:cNvPicPr/>
          <p:nvPr/>
        </p:nvPicPr>
        <p:blipFill>
          <a:blip r:embed="rId1"/>
          <a:stretch/>
        </p:blipFill>
        <p:spPr>
          <a:xfrm>
            <a:off x="6172200" y="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South America, Andes Mountains, Pe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capital was Cuzco Located in South America, Andes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Incas were polytheistic-belief in many go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did not have written language, but had spoken language (used knots as message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also practiced animal sacrifice, and on special occasions human sacrific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Incas were taken over by  the Pizarro and the Spanish in 1531 because they were fighting in the civil  w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6934320" y="101520"/>
            <a:ext cx="220968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the spring of 1519,Cortez landed on the east coast of Mexico with more than 650 soldiers and 16 horses the first horses in the Americas for thousands of years.</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tez took Montezuma hostage, and Montezuma was killed in the fight that followed.</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tez  and his expedition found safety with the Indians who had helped them earlier. The next year ,in 1521, Cortez returned to Tenochitlan to capture the Aztec treasure. With the help of the Indians , Spanish tore down the Aztec temples and destroyed the great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oudy Stout"/>
              </a:rPr>
              <a:t>Pizarro</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 1514 Francisco  Pizarro and a group of 180 soldiers explored the west coast of South America. They went in search of the riches of  the Inca Empire. For months they traveled the Andes Mountains collecting gold and riches from the Native Americans they encount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How did the Spanish explorers and conquistadors change Central and South America fore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ost of central and South America speaks  Spani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ajority of peoples  in central and South America are Christian, and no longer worship their g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Aztec, Inca, Maya culture and traditions have disappeared for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56:53Z</dcterms:created>
  <dc:creator>h</dc:creator>
  <dc:description/>
  <dc:language>en-US</dc:language>
  <cp:lastModifiedBy>jklib</cp:lastModifiedBy>
  <dcterms:modified xsi:type="dcterms:W3CDTF">2011-11-30T16:23:39Z</dcterms:modified>
  <cp:revision>10</cp:revision>
  <dc:subject/>
  <dc:title>Conquistadors and pre Columbian civilizations</dc:title>
</cp:coreProperties>
</file>